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A430-E3C8-4F6C-AD55-CA62AD594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B69B-A46D-43EC-ABA8-6CF527B6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CE51-2C6B-4226-B21A-715C6E2A2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2AEA-BDA7-49E7-8645-B691F65EA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F2BC-8071-4C75-922E-73849031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78F0-2FE6-4460-8595-E80D46D8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9899-2CAA-459C-8912-AA2DCB56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5796-378F-4816-90A6-192CE0EA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7630-752A-49E3-B4C4-ADB3744E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74FC-8CBA-495E-AFEA-D23AD5FD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5789-CD89-4AEA-AF2A-02BA68F1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F41B-685A-4A60-8ACE-8AFE0CFD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3F16-75F2-4FB3-AD67-4A270FA550F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V validation plate #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605520" y="1341360"/>
            <a:ext cx="8064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384 amplicons ( two 384-well plates of primer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nts: 4 different types of SV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ndem duplications ( evertion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thods: 4 SV calling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-2-3-S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ublic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 list published by 1000 genomes project (October 2010; trio + low coverage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lection creteria &amp; amplicon desig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539640" y="1341360"/>
            <a:ext cx="79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onsider that everything which was found in 1000 genome projects represents positive call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NL SV calls that are made by several tools are likely to be tru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first verification we want to see how to improve  calling for the tools used for GoNL SV analys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plicon sizes are between 200 and 500 b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lt;= 300 bp we fully resequence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gt; 300 bp we resequence only 5-prime breakpoint from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ndomly selected se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826920" y="1700280"/>
            <a:ext cx="24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le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716360" y="1773360"/>
            <a:ext cx="244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ver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112400" y="573264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tal: 384 SV candid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erification with Ion torr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738360"/>
            <a:ext cx="7934400" cy="5570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83680" y="6488280"/>
            <a:ext cx="60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mer ~ 23 bp (+tail). Breakpoint should be close to the pri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2:34:52Z</dcterms:created>
  <dc:creator>Vityay</dc:creator>
  <dc:description/>
  <dc:language>en-US</dc:language>
  <cp:lastModifiedBy>Vityay</cp:lastModifiedBy>
  <dcterms:modified xsi:type="dcterms:W3CDTF">2011-10-13T13:06:38Z</dcterms:modified>
  <cp:revision>2</cp:revision>
  <dc:subject/>
  <dc:title>SV validation plate #1</dc:title>
</cp:coreProperties>
</file>